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593B-87E7-4E9F-800E-7BD67E5468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5746-D9A8-4D75-8BB0-F48C87B497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AA0-E3EB-40BF-A3B9-94A5BA07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F23-6BB9-4081-8968-01918EB6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D1A-80FC-4B29-B364-3C8DA453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2C0-AB2A-49F1-8D5F-854C3793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36C-5D65-4ED8-9C6E-D18742FF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754-A68A-471E-8A5E-43ABFA7A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451-AC97-4A18-ABD9-E01EC976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891-CD07-4DF0-A239-159FE172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07A-063C-4CE9-B0D4-E50B2319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C87-BA1A-4C5B-A2B1-E41815E6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EC1-4936-4545-85BE-062DA141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3AD-EA63-45D1-A8E8-DF8E9BE0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A139-57B3-4214-B726-1E9C9C99766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docenti</cp:lastModifiedBy>
  <dcterms:modified xsi:type="dcterms:W3CDTF">2013-03-01T09:55:44Z</dcterms:modified>
  <cp:revision>4</cp:revision>
  <dc:subject/>
  <dc:title>Diapositiva 1</dc:title>
</cp:coreProperties>
</file>